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920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0520" y="746280"/>
            <a:ext cx="497196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920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52A9-C0AE-48A8-AF12-F8E106A96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How can students understand a virtual collaborative problem solving if they don’t experience 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906-9E5F-463C-98BD-1D9D4825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280" y="3747240"/>
            <a:ext cx="78123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8BF5-BE36-4A29-A874-FC6CADBB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4284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280" y="374724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42840" y="374724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61A-EE09-445F-AB10-D9A86C93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0600" y="162828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22280" y="162828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280" y="374724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0600" y="374724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22280" y="374724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D0D7-6AF1-4A2D-BB3B-F80A08F7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0C31-F4AA-4C9E-8671-05838396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8C7F-97A1-459D-8D8D-A1CA07BB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D86C-656F-4AB5-95B6-559CC174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81240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2840" y="1628280"/>
            <a:ext cx="381240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CA09-E527-48E7-9D65-65BF3D8E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264C-D79C-4CDE-948C-8152B7DE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7489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A772-00DE-4324-9C17-40BAA672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42840" y="1628280"/>
            <a:ext cx="381240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280" y="374724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EB2F-87C6-4360-996A-132F1EC6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32F3-C41B-4358-954E-039D3705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81240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4284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42840" y="374724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DA5B-49A0-4758-8625-47306817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4284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3747240"/>
            <a:ext cx="78123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75D1-FAD5-4B35-9099-74DD579E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280" y="3747240"/>
            <a:ext cx="78123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43A2-2A34-45CF-8893-BFF8CFAE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4284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280" y="374724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42840" y="374724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6930-ED00-4D5F-9B19-8798DED3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0600" y="162828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22280" y="162828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280" y="374724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0600" y="374724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22280" y="374724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C16E-8E11-404B-82F6-3F0516C1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670-44B6-421F-869A-A043B022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81240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42840" y="1628280"/>
            <a:ext cx="381240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4240-2C7F-4EFD-A49F-DFC35577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D46-16E0-4E76-AF22-29BD9FD3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7489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7EC5-2FD5-4D91-ACAC-3E0827CF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42840" y="1628280"/>
            <a:ext cx="381240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280" y="374724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A891-DDDD-491B-9EE3-29F5A269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81240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4284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42840" y="374724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4CA-8F23-4FAE-AFCF-B8DC2D15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4284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280" y="3747240"/>
            <a:ext cx="78123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968D-A76D-409B-870B-F41F5B72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4D0A-FB9E-47D2-8681-BDCD546BE9D5}" type="slidenum">
              <a:rPr b="1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42100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8C28-7A57-4A82-B1D8-AB62FC17CF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secamphq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920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Collaborative Problem-Solving and </a:t>
            </a:r>
            <a:br>
              <a:rPr sz="4000"/>
            </a:b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Virtual Te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‘</a:t>
            </a: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Most’ students … to work in a te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Need to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uild the skills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 to work effectively in a virtual team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Develop effective social exchanges and communication skill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Develop collaborative behaviou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Develop ability to have deep and active discussion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Are they active learners or “easy-riders”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am et al, 2005, Virtual teams: Surviving or thriving?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42800" y="1986120"/>
            <a:ext cx="8258400" cy="288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Team Memb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t be able 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dopt and adap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o new technologies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t b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lexi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a changing variety of assignments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ed superior tea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rticipation skill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 members must quickl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culturat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[assimilate culturally]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t be able to work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ependentl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th &amp; Selby]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7489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5 Challenges to Virtual Team Su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812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Building trust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 within a virtual team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Maximising gains and minimising losses on Virtual Teams [risk management]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Overcoming feelings of 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isolation and detachment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 associated with virtual team wor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Balancing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 technical and interpersonal skills among Virtual Team memb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Assessment and recognition of virtual team performan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[Kirkman et al, 2002]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5084280"/>
            <a:ext cx="78123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ttp://www.kelowna.ca/CityPage/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mages//iGo/Telecommutefunny.gif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124000" y="907920"/>
            <a:ext cx="4583160" cy="398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Team R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effective team begins with face-to-face and includes face-to-face opportunities on an ongoing basis (developing trust)**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nowledge and group culture need to be made explici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 must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r and consiste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rtual meetings must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nored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pectations must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early outlin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son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st be recognized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team must have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ear purpose and focu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ep the technology simple, usable, and available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th &amp; Selby]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Similar but Different 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6600"/>
                </a:solidFill>
                <a:latin typeface="Arial"/>
              </a:rPr>
              <a:t>Virtual Team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Work on the same projec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Team members are hand picke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ave a finishing date (finite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6600"/>
                </a:solidFill>
                <a:latin typeface="Arial"/>
              </a:rPr>
              <a:t>Virtual Communiti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hare common interes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Open invitation to joi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Are ongoing and evolving (infinite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They may use the same technologi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09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es for collaborative team su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Socia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couraging personal contac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elebrating team successe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6600"/>
                </a:solidFill>
                <a:latin typeface="Arial"/>
              </a:rPr>
              <a:t>Organisational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gularly scheduled meeting times and time limi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ten agenda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eping meeting minut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ring established role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gning tasks to be completed prior to next meeting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Technical aspects of Collaborative Problem Solv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81236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ff6600"/>
                </a:solidFill>
                <a:latin typeface="Arial"/>
              </a:rPr>
              <a:t>Synchronous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 environmen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Chat rooms (mIRC, MSN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Collaborative tools such as Netmeet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videoconferenc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ff6600"/>
                </a:solidFill>
                <a:latin typeface="Arial"/>
              </a:rPr>
              <a:t>Asynchronou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nvironmen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Lett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Discussion Forum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Wiki’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ff6600"/>
                </a:solidFill>
                <a:latin typeface="Arial"/>
              </a:rPr>
              <a:t>What do you use in your school?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09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Collaborative Technolog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BaseCampHQ Online Tools</a:t>
            </a:r>
            <a:br>
              <a:rPr sz="2800"/>
            </a:b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basecamphq.com/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To Do lis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File Sha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Google Docs &amp; Spreadshee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Revision history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Wiki’s, Blogs, Discussion Groups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Microsoft ‘Groove’ 2007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Moodl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Collaborative Problem Solv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To work well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Issues relating to the formation of the team, eg. common purpose, voluntary, et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Problem-solving process needs to be equal, equal access, respectful, et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Project must be time-limite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Screen dump of collaborative t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96000" cy="4572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348000" y="2062080"/>
            <a:ext cx="5796000" cy="479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80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Technology Issues to consider when working in a team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What standards are you going to use for filenames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How are you going to keep track of revisions or versions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Is there an ‘over dependence’ on email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How are you going to back work up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What type of security will you need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(these issues will be considered later in the theory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Knowledg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way a company stores, organizes and accesses internal and external information’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rganizational Memor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n someone leaves an organization …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nowledge Transfe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uilding the collective knowledg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Distinction between knowledge sharing and managemen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604080"/>
            <a:ext cx="7489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The  Study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Unit 3 Outcome 2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Students need to ‘demonstrate </a:t>
            </a:r>
            <a:r>
              <a:rPr b="1" i="1" lang="en-AU" sz="3200" spc="-1" strike="noStrike">
                <a:solidFill>
                  <a:srgbClr val="ff6600"/>
                </a:solidFill>
                <a:latin typeface="Arial"/>
              </a:rPr>
              <a:t>insightful 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knowledge about the </a:t>
            </a:r>
            <a:r>
              <a:rPr b="1" i="1" lang="en-AU" sz="3200" spc="-1" strike="noStrike">
                <a:solidFill>
                  <a:srgbClr val="ff6600"/>
                </a:solidFill>
                <a:latin typeface="Arial"/>
              </a:rPr>
              <a:t>characteristics of collaborative problem-solving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6600"/>
                </a:solidFill>
                <a:latin typeface="Arial"/>
              </a:rPr>
              <a:t>and knowledge sharing practices of virtual teams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’ </a:t>
            </a:r>
            <a:br>
              <a:rPr sz="3200"/>
            </a:b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[pg 18 of Assessment Guide]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00000"/>
                </a:solidFill>
                <a:latin typeface="Arial Black"/>
              </a:rPr>
              <a:t>Characteristics of Collaborative Problem Solving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812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tudents need to be aware of 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The problem solving proces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ff6600"/>
                </a:solidFill>
                <a:latin typeface="Arial"/>
              </a:rPr>
              <a:t>Social factors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 that might impact on collaborative problem solv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ategies for maintaining the balance between completing tasks and maintaining constructive working relationships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Building trus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Organizational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ctors that support collabora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dures and mechanisms for interactions and decision-mak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ff6600"/>
                </a:solidFill>
                <a:latin typeface="Arial"/>
              </a:rPr>
              <a:t>Technical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factors to support a collaborative environ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What is a virtual team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group of people who share knowledge and solve problems using ICT. They may never meet face-to-face, conducting all communications via electronic means.’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[IT Study Design]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Virtual teams use networks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604080"/>
            <a:ext cx="7489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5734080"/>
            <a:ext cx="7812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://www.itr.com.cn/newsletter/images/eng/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ssue05/telecommuting.jp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050920" y="692280"/>
            <a:ext cx="4792680" cy="48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reate a Virtual Team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arent organization can be locat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can include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st peop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regardless of their location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offers employees person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exibilit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can offe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creased productivity**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can increase speed of solution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can decrease bottlenecks or delays between customers and suppliers or geographically dispersed employee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can reduce commuter times and cos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Ruth &amp; Selby]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80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Different kinds of virtual tea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Telecommuters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g. People who generally work from hom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Regionally distributed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ales team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g. Merchandisers or franchisee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Vendors and trade associations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g. Car dealership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Neighbourhood or Non-Profit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 associations, clubs and societi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g. VITTA, Environmental Action Group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604080"/>
            <a:ext cx="7489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8136000" cy="276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00:27:25Z</dcterms:created>
  <dc:creator>senior</dc:creator>
  <dc:description/>
  <dc:language>en-US</dc:language>
  <cp:lastModifiedBy>Kelvin Baird</cp:lastModifiedBy>
  <dcterms:modified xsi:type="dcterms:W3CDTF">2007-04-07T03:03:36Z</dcterms:modified>
  <cp:revision>41</cp:revision>
  <dc:subject/>
  <dc:title>Virtual Communities and the new IT Applications study design</dc:title>
</cp:coreProperties>
</file>